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64B-273C-4105-98EF-13884061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A5D-05FE-4977-8F3B-BB1FF80F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E4A-6174-4F4F-A67C-8EFD5FA6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924-8C55-4D5B-B66F-28D1E515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D5E-9346-4465-9CD9-C0B2DCFE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DF5-C895-4DD5-9754-1F6EE35F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5F3-3C0E-432C-844C-E13C686B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F89-BE83-4419-9858-EB9E2D8F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71C-4F53-46E3-A512-6FA6D1C8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634-C828-46DA-8FA7-DB7B7FB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28F-7184-4C70-943B-E3AFB284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9B6-5BE3-4242-930A-372E112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1216-A797-463B-9F6E-6681A0464C5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abadon eső létra vizsg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enletes gyorsu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ezdőfeltételek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: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függés ism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ebesség lineá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tett út para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195640" y="4221000"/>
                <a:ext cx="4535280" cy="19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egellenállás számíthat, 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besség n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ömeg kic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lület n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onalzó, szigetelősza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9mm szalagszéles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5cm perió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tokapuval mérhetjük a sávok kapuhoz érkezési pillanat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tett út sávonként 5cm-rel n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08720" y="1989000"/>
          <a:ext cx="1103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1989000"/>
                    <a:ext cx="1103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fotokap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1000Hz (1ms felbont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1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szöbszint: 2,5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szterézis: 0,1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otokaput az asztal széléhez rögz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t elindí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vonalzót a kapu érzékelője előtt leej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gyeljünk a szabályos ejtés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2-3% pontossággal mér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i adatokat táblázatkezelővel dolgozhatjuk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g értéke görbeillesztéssel kaphat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) : para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) : egy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arabola illesztés pontosabb eredményt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ebesség pontossága nagyobb értékeknél kise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2:59:34Z</dcterms:modified>
  <cp:revision>118</cp:revision>
  <dc:subject/>
  <dc:title>PowerPoint Presentation</dc:title>
</cp:coreProperties>
</file>