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210-BB01-412C-BF97-9DD9A0E7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BE6-A3B9-4535-B789-73526B9F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E80-09C0-4E56-8B76-9B5412B5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1D5-FE44-44EB-8AA7-52E99D7A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899-BB0D-4737-978D-DF183F5B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CEB-650F-41F6-90C2-50D338CC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ED3-D41F-47E0-AD99-86A0A6AE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EA7-2CF8-4EA4-ACBF-FD58C4A1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B9F-12DD-48E8-A7A2-18A4E480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9D3-6929-4EA5-A6DD-7C57EEA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DF5-FA56-406B-B407-E48BD5CA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ED7-F683-49C2-85D3-5B697FE2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95FE-E16F-4DDA-AF24-A3507B70A74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Rugóra függesztett test mozgásának mérése gyorsulásszenzor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lengési idő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gyorsulásszenzorral mér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rugóállandó mér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illapodó lengési amplitúd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929120" y="2133720"/>
                <a:ext cx="343692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zte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ugóra tömeget függesztü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estre rögzítjük a szenz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sznált csatornák: A (gyorsulásszenz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tavételi rát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00Hz (1ms felbon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00Hz (0,5ms felbon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dőablak: 10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szöbszint: a nyugalmi ért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szterézis: 0,1V (az amplitúdónál kisebb legy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zgést elindí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ünk néhány szintmetszési idő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okat táblázatkezelőbe vihe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lengési időátlagát, szórását számolha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ugóállandó 1-2% pontossággal mér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i adatokat táblázatkezelővel dolgozhatjuk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 időfügg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ugók soros, párhuzamos kapcso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zgés csillapod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ugó helyett gumiszálat is próbál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illapodási tényező függ az anyagt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 hibájának becslé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felbontás: 1/mintavételi r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alap pontossága 0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3:37:35Z</dcterms:modified>
  <cp:revision>115</cp:revision>
  <dc:subject/>
  <dc:title>PowerPoint Presentation</dc:title>
</cp:coreProperties>
</file>