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A05F-BC97-467A-95FD-3DF5CD739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405B-39C5-4CDD-AAED-43944D7F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0469-4F11-489B-860F-E7C6E0844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EB85-C493-44C8-A03E-39ECB1662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75FF-CF19-450B-BF9C-E8350175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F273-37C6-4856-85DF-2746F521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77A6-FE4E-41AF-8B7A-62AB79BD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4B62-7C2E-4B0A-B731-2A9AC0AE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059E-44FE-43A7-AFC9-FDC42421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1BE9-0AC7-4A37-A9F5-270237BF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54B7-6849-4B33-A738-17CF22EE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89FA-45DF-4FBA-9DE4-03E86169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559A-F865-4E69-AB72-0A4715AD5BF9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lehűlési törvény kísérleti vizsgál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opasz Katalin, Makra Péter, Gingl Zolt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www.noise.physx.u-szeged.h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zeged, 2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Tapasztalatok, javaslat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ipróbálhatjuk folyadékkal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igyeljünk a szenzor épségé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közeg hőmérsékletét meg kell becsülnünk a logaritmálásh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Célszerű ezt állíthatóra tenni és értékét a leglineárisabb esethez igazítan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lméleti hátté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hőmérséklet változási sebessége arányos a különbségg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xponenciális lehűl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: környez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: kezde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643280" y="1955880"/>
                <a:ext cx="3745080" cy="27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  <m:r>
                          <m:t xml:space="preserve">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%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0,1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τ</m:t>
                        </m:r>
                        <m:r>
                          <m:t xml:space="preserve">=</m:t>
                        </m:r>
                        <m:r>
                          <m:t xml:space="preserve">2,3</m:t>
                        </m:r>
                        <m:r>
                          <m:t xml:space="preserve">⋅</m:t>
                        </m:r>
                        <m:r>
                          <m:t xml:space="preserve">τ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%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τ</m:t>
                        </m:r>
                        <m:r>
                          <m:t xml:space="preserve">=</m:t>
                        </m:r>
                        <m:r>
                          <m:t xml:space="preserve">4,6</m:t>
                        </m:r>
                        <m:r>
                          <m:t xml:space="preserve">⋅</m:t>
                        </m:r>
                        <m:r>
                          <m:t xml:space="preserve">τ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ennyire igaz az elméletün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környező közeg felmelegedh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hőátadás több közegen megy á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yugvó levegő vagy köze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ősugárzá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Kísérleti elrendez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ermisz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érési beállítás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sznált csatornák: B (termiszt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kálázási adatok : termisz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intavételi ráta: 1Hz (1s felbontá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Időablak: 500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mérés mene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elegítsük fel a termisztort kézzel 3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C föl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Indítsuk el a méré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abad levegőn (ne érjen semmihez) hagyjuk hűl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érési eredmény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619280" y="1843200"/>
          <a:ext cx="5905440" cy="439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843200"/>
                    <a:ext cx="590544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érési eredmény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39640" y="1916280"/>
          <a:ext cx="5193000" cy="413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16280"/>
                    <a:ext cx="5193000" cy="41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 txBox="1"/>
          <p:nvPr/>
        </p:nvSpPr>
        <p:spPr>
          <a:xfrm>
            <a:off x="5795640" y="1981080"/>
            <a:ext cx="26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kete: mé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ros: illeszte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1/0,008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Összefoglal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emléltethető: Newton-féle lehűlési törvé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áblázatkezelővel linearizálhatu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enesillesztéssel az időállandó megadhat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li</cp:lastModifiedBy>
  <dcterms:modified xsi:type="dcterms:W3CDTF">2010-03-23T00:35:33Z</dcterms:modified>
  <cp:revision>125</cp:revision>
  <dc:subject/>
  <dc:title>PowerPoint Presentation</dc:title>
</cp:coreProperties>
</file>