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3C7-1BF2-44BA-AA6B-217C1287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517-C463-4322-B679-6363CC72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543-5805-44CA-A327-6B5E76ED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6C2-569A-4A76-99B6-8B0C33DD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CA6-B39D-4254-91F5-CBE9675C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490-1F60-4788-B859-F715C849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C5C-8523-4F6A-B918-B4214F85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01D-DCEA-4DDC-9B8B-2FDAA393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BC1-D12D-4B11-B8B6-AF58DF07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065-DF2D-4B8D-8DAF-AFFE814E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393-DF56-4E05-B0E1-03720C26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941-B3C8-4C59-A70B-C98FE129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DBC6-304A-48C0-BEC6-3D6DE8F6974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yorsulás mérése szabadesés közb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adon eső vonatkoztatási rendszerben a gyorsulás nu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úlytalanság állap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ldobás is szabadesés, más kezdőfeltéte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zegellenállás befolyá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rúdra rögzítjük a szenz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úd stabilitást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57880" y="1981080"/>
            <a:ext cx="5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gyorsulásszenz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00Hz (1ms felbon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00Hz (0,5ms felbon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10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udat elejtjük, feldobjuk, majd elkap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abadesés idejére a gyorsulás nu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 szabadesés köz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kapási tranziens gyorsu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jünk a szenzor és a vezeték esetleges fokozott igénybevétel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3:48:21Z</dcterms:modified>
  <cp:revision>117</cp:revision>
  <dc:subject/>
  <dc:title>PowerPoint Presentation</dc:title>
</cp:coreProperties>
</file>